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C22F-714D-45FB-A155-1D2E2A56F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4E2A-6191-4EA3-ABA9-79F7D13B5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9707-7778-4A0D-BEFD-CFE1A1950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AC2C-D462-4A17-956C-C747681F8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88BE-01CD-461A-BAA2-1E9F6C628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75A6-4C84-42C0-A521-9C9659C36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9366-1DBD-4019-B578-B6B5552F5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7C00-1397-475B-9063-ECEDCF2C0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B992-5526-4942-9C35-4CFDCA790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C98E-9AD2-4FFB-992A-E8E355C44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25CD-B183-4DF0-AFB5-CEE6FD197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956A-5A60-42C1-BF30-8613C854F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C192-10D7-4620-8717-9E60F2353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CAC0-B5A7-4081-A246-49ED2E396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4FD1-E96C-4A43-8B69-6E93D73D9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086D-17A2-457C-B06D-FCDD7AE32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9F60-F55A-4D87-A015-7759D5F78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D02C-3D82-44BB-B334-BAA902F7F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4FF0-C182-4DC5-B243-112C611CE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D0BB-D8E7-41F4-B356-4326E4539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DDA0-C41D-4223-9007-E7D5FF68A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113E-CA7B-4044-B7D9-D0C2F9A2F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14A3-8EE9-4F66-9549-4B2AD8E89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4C98-3D8B-439F-A312-F461A5C1C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AB2F-A673-4DB6-BA90-AACAEEC8A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8A54-F830-459E-A13B-B066F6F97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552F-5727-42E3-9149-177AD37ED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C0276-5795-4561-84D0-1B6B75CF3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9E41-F723-41DB-9912-6031F53A5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F8220-4E68-4D7A-97A2-CDD74DB34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A998A-6317-4E60-959E-D837502A7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47A33-DA66-4FB1-B21E-73DFED934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B5289-B8ED-455C-9A46-C925705A2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9EBA1-6B20-4875-A75C-5923CB420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8F461-D11E-40B0-9688-5EA996D3C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82AE1-0CED-4E32-BF82-C273B46B8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2271B-7D0F-448D-A75A-2BF489357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E181B-06A9-48DA-9DCF-0A64E93F9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749F0-4096-4073-AFE2-F794D9F1E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6C2E0-0D73-4463-9788-CC2888A37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FB029-FB18-4190-9984-10AF8C977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537CC-D1ED-4FC6-84CC-64C4DDB65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98B73-EF98-4E8C-BA9A-F7BADE01C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46D8C-4467-44CC-887E-D755700F7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1F15-2DB9-4FB8-9C3F-729BAA98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F1A33-24AE-46CA-9952-991D9E492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3BC4F-A966-4355-AC1A-C790403E0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AB81-72BB-411F-9815-1920D153C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F344-2592-4D62-95DD-602F2478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E091-5609-48CC-ADE2-9742D1946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24E5-F418-4961-B93E-42D39EC9D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E0F4-5C93-47E2-B383-7E54BF7D713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F3DA-C41B-415C-A494-600C000D622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ELATIONSHIPS</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THE SUPERVISORS AND HOW THEY FUNCTION AS LEAD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OCIATE’S STYLES AND EXPECTATIONS CAN BE TAKEN INTO CONSIDERATION WHEN DEVELOPING STRATEGIES TO FIT THE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ATIONAL GOALS AND THE ORGANIZATION’S STYLE ARE IMPORTANT IN ACCOMPLISHING OBJECTIV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FORGET OUTSIDE EXTERNAL VARIAB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G”</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EY GENERATION:  AGES 54 AND OLD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NSTRATE CORE VALUE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DICATION</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CRIFIC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RD WORK</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ORM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W AND ORDER</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ECT FOR AUTHOR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IENC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ED REWARD</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TY BEFORE PLEASUR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HERENCE TO RULES</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UNIFORM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GS ON A GRAND SCAL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VISION OF LAB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G”</a:t>
            </a: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T DOWN AND DISCUSS EXPECT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IS NOT AN ISSUE; ATTITUDE 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FOR WAYS TO CUT RED TAPE AND BUREAUCRAC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EP UP WITH TECHN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B”</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BY GENERATION:  AGES 35 TO 5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IS THE CRITICAL ISSU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IVED AS A GENERATION OF COMMITMENT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IEVES IN:</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WTH</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ANSION</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ING STARS OF THE SHOW</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VE AND COOPERATIV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SUE PERSONAL GRATIFICATION</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IVE FOR HEALTH, OPTIMISM, WELLNESS, INVOLVEMENT AND PESONAL GROW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YUPPIES” ARE THE FIRST HALF OF THE BABY BOOMERS AND TEND TO BE MORE IDEALISTIC, AMBITIOUS WITH A WORKAHOLIC NATURE DRIVING THEM IN WAYS TO SUCCEED IN WAYS THAT INCREASE STATUS, PRESTIGE, AND OPPORTUNITIES FOR CONTROL AND PO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ATTER PORTION OF BOOMERS ARE LESS MATERIALISTIC, SPEND MORE TIME WITH FAMILIES, AND ARE MORE CYNICAL ABOUT GOOD WORK HABITS AND POSITIVE MENTAL ATTITUDE WILL YIELD REWAR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ENVIRONMENTAL VARIABLES</a:t>
            </a:r>
            <a:endParaRPr b="0" lang="en-US" sz="4600" spc="-1" strike="noStrike">
              <a:solidFill>
                <a:srgbClr val="006633"/>
              </a:solidFill>
              <a:latin typeface="Garamond"/>
            </a:endParaRPr>
          </a:p>
        </p:txBody>
      </p:sp>
      <p:sp>
        <p:nvSpPr>
          <p:cNvPr id="96" name="PlaceHolder 2"/>
          <p:cNvSpPr>
            <a:spLocks noGrp="1"/>
          </p:cNvSpPr>
          <p:nvPr>
            <p:ph type="subTitle"/>
          </p:nvPr>
        </p:nvSpPr>
        <p:spPr>
          <a:xfrm>
            <a:off x="1523880" y="4952520"/>
            <a:ext cx="6400800" cy="175284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7" name="Diagram 5"/>
          <p:cNvGrpSpPr/>
          <p:nvPr/>
        </p:nvGrpSpPr>
        <p:grpSpPr>
          <a:xfrm>
            <a:off x="2619360" y="1940040"/>
            <a:ext cx="3905280" cy="4271400"/>
            <a:chOff x="2619360" y="1940040"/>
            <a:chExt cx="3905280" cy="4271400"/>
          </a:xfrm>
        </p:grpSpPr>
        <p:sp>
          <p:nvSpPr>
            <p:cNvPr id="98" name="_s1028"/>
            <p:cNvSpPr/>
            <p:nvPr/>
          </p:nvSpPr>
          <p:spPr>
            <a:xfrm flipH="1" flipV="1">
              <a:off x="3632040" y="3540600"/>
              <a:ext cx="470160" cy="267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1029"/>
            <p:cNvSpPr/>
            <p:nvPr/>
          </p:nvSpPr>
          <p:spPr>
            <a:xfrm>
              <a:off x="2619360" y="2739240"/>
              <a:ext cx="1085760" cy="106848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PERVISORS</a:t>
              </a:r>
              <a:endParaRPr b="0" lang="en-US" sz="1100" spc="-1" strike="noStrike">
                <a:solidFill>
                  <a:srgbClr val="000000"/>
                </a:solidFill>
                <a:latin typeface="Arial"/>
              </a:endParaRPr>
            </a:p>
          </p:txBody>
        </p:sp>
        <p:sp>
          <p:nvSpPr>
            <p:cNvPr id="100" name="_s1030"/>
            <p:cNvSpPr/>
            <p:nvPr/>
          </p:nvSpPr>
          <p:spPr>
            <a:xfrm flipH="1">
              <a:off x="3632040" y="4341960"/>
              <a:ext cx="470160" cy="266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1" name="_s1031"/>
            <p:cNvSpPr/>
            <p:nvPr/>
          </p:nvSpPr>
          <p:spPr>
            <a:xfrm>
              <a:off x="2619360" y="434196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OB DEMANDS</a:t>
              </a:r>
              <a:endParaRPr b="0" lang="en-US" sz="1100" spc="-1" strike="noStrike">
                <a:solidFill>
                  <a:srgbClr val="000000"/>
                </a:solidFill>
                <a:latin typeface="Arial"/>
              </a:endParaRPr>
            </a:p>
          </p:txBody>
        </p:sp>
        <p:sp>
          <p:nvSpPr>
            <p:cNvPr id="102" name="_s1032"/>
            <p:cNvSpPr/>
            <p:nvPr/>
          </p:nvSpPr>
          <p:spPr>
            <a:xfrm>
              <a:off x="4572000" y="4609080"/>
              <a:ext cx="0" cy="533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3" name="_s1033"/>
            <p:cNvSpPr/>
            <p:nvPr/>
          </p:nvSpPr>
          <p:spPr>
            <a:xfrm>
              <a:off x="4029120" y="514332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TUATION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BLES</a:t>
              </a:r>
              <a:endParaRPr b="0" lang="en-US" sz="1100" spc="-1" strike="noStrike">
                <a:solidFill>
                  <a:srgbClr val="000000"/>
                </a:solidFill>
                <a:latin typeface="Arial"/>
              </a:endParaRPr>
            </a:p>
          </p:txBody>
        </p:sp>
        <p:sp>
          <p:nvSpPr>
            <p:cNvPr id="104" name="_s1034"/>
            <p:cNvSpPr/>
            <p:nvPr/>
          </p:nvSpPr>
          <p:spPr>
            <a:xfrm>
              <a:off x="5041800" y="4341960"/>
              <a:ext cx="470160" cy="266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5" name="_s1035"/>
            <p:cNvSpPr/>
            <p:nvPr/>
          </p:nvSpPr>
          <p:spPr>
            <a:xfrm>
              <a:off x="5438880" y="434196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LLOWERS</a:t>
              </a:r>
              <a:endParaRPr b="0" lang="en-US" sz="1100" spc="-1" strike="noStrike">
                <a:solidFill>
                  <a:srgbClr val="000000"/>
                </a:solidFill>
                <a:latin typeface="Arial"/>
              </a:endParaRPr>
            </a:p>
          </p:txBody>
        </p:sp>
        <p:sp>
          <p:nvSpPr>
            <p:cNvPr id="106" name="_s1036"/>
            <p:cNvSpPr/>
            <p:nvPr/>
          </p:nvSpPr>
          <p:spPr>
            <a:xfrm flipV="1">
              <a:off x="5041800" y="3542040"/>
              <a:ext cx="470160" cy="266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7" name="_s1037"/>
            <p:cNvSpPr/>
            <p:nvPr/>
          </p:nvSpPr>
          <p:spPr>
            <a:xfrm>
              <a:off x="5438880" y="274104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OCIATES</a:t>
              </a:r>
              <a:endParaRPr b="0" lang="en-US" sz="1100" spc="-1" strike="noStrike">
                <a:solidFill>
                  <a:srgbClr val="000000"/>
                </a:solidFill>
                <a:latin typeface="Arial"/>
              </a:endParaRPr>
            </a:p>
          </p:txBody>
        </p:sp>
        <p:sp>
          <p:nvSpPr>
            <p:cNvPr id="108" name="_s1038"/>
            <p:cNvSpPr/>
            <p:nvPr/>
          </p:nvSpPr>
          <p:spPr>
            <a:xfrm flipV="1">
              <a:off x="4572000" y="3007800"/>
              <a:ext cx="0" cy="533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9" name="_s1039"/>
            <p:cNvSpPr/>
            <p:nvPr/>
          </p:nvSpPr>
          <p:spPr>
            <a:xfrm>
              <a:off x="4029120" y="194004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a:t>
              </a:r>
              <a:endParaRPr b="0" lang="en-US" sz="1100" spc="-1" strike="noStrike">
                <a:solidFill>
                  <a:srgbClr val="000000"/>
                </a:solidFill>
                <a:latin typeface="Arial"/>
              </a:endParaRPr>
            </a:p>
          </p:txBody>
        </p:sp>
        <p:sp>
          <p:nvSpPr>
            <p:cNvPr id="110" name="_s1040"/>
            <p:cNvSpPr/>
            <p:nvPr/>
          </p:nvSpPr>
          <p:spPr>
            <a:xfrm>
              <a:off x="4029120" y="354240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OMERS WORRY ABOUT BEING REPLACED BY MANAGE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B”</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BOOMERS KNOW THEY ARE VALUED, RESPECTED, AND WILL BE GIVEN CREDIT FOR ACCOMPLISHM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LLENGE THESE INDIVIDUALS TO EXC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UNIQUE CONTRIBUTO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IN STRATEGIC PLANNING, BUDGETING, AND COACHING SKILLS FOR PERSONAL GROWT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X”</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ers:  AGES 23 TO 34</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CKERS, BUSINESS PEOPLE, VOLUNTEERS, AND POLITICIANS THAT RUN THE COUNTRY</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B SATISFACTION IS IMPORTANT FACT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NTS THEIR WORK TO MATTE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NT WORK RELATIONSHIPS TO BE POSITIVE EXPERIENC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ION IS VERY IMPORTAN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WANT TO CONTRIBUTE AND MAKE A DIFFER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NT FLEXIBLE HOUR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NT INDEPENDEN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 AND HUMOR ARE INTEGRATED INTO WORK ENVIRONME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UAL DRESS IS THE STANDAR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 WALK AWAY FROM JOBS IF NOT SATISFI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PPING THEIR SUPERVISORS IN TERMS OF TECHN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X”</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JOB SHARING, CROSS TRAINING, FLEXIBLE SCHEDULING, RELAXED DRESS COD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DUCT REGULAR STAFF MEETINGS AND INVOLVEMENT SESSION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 WHERE THEY ARE WEAK AND STRO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RESS THAT QUALITY OF WORK IS MORE IMPORTANT THAT THE NUMBER OF YEARS OF EXPERIENC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FREEDOM TO GET THE JOB DON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AVAILABILITY FOR TRAINI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MULTIPLE RESOURCES AND MEDI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RESPONSIBILITY FOR SIMULTANEOUS TASKS AND PROJEC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Y”</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ES GENERATION:  AGES 12 TO 2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W UP WITHOUT STRONG NUCLEAR FAMI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KNOWLEDGE AND TALK OPENLY ABOUT ADULT ISSU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OCATES FOR THE ENVIRON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ATER ACCEPTANCE OF MULTICULTURALIS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Y”</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ND MORE TIME ORIENTING AND SUPERVISING THESE INDIVIDU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ABLISH MENTOR PROGRA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RESPECT FO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YLE AND EXPECTATIONS</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 IS THE CONSTANT BEHAVIOR PATTERNS USED BY LEADERS WHEN THEY ARE WORKING THROUGH OTHER PEOPLE, AS PERCEIVED BY THOSE PEOPLE. STYLE IS INFLUENCED BY THE LEADER’S VALUE SYSTEM, CONFIDENCE IN THE EMPLOYEES, PERSONAL INCLINATIONS, AND FEELINGS OF SECUR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ATIONS IS THE PERCEPTIONS OF APPROPRIATE BEHAVIOR FOR ONE’S OWN ROLE OR POSITION OR ONE’S PERCEPTION OF THE ROLES OF OTHERS WITHIN THE ORGANIZATION.  IF EXPECTATIONS ARE TO BE COMPATIBLE, IT IS IMPORTANT TO SHARE COMMON GOALS AND OBJECTIV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RATEGIES TO DEAL WITH THE ENVIRONMENTAL VARIABLES</a:t>
            </a:r>
            <a:endParaRPr b="0" lang="en-US" sz="3800" spc="-1" strike="noStrike">
              <a:solidFill>
                <a:srgbClr val="006633"/>
              </a:solidFill>
              <a:latin typeface="Garamond"/>
            </a:endParaRPr>
          </a:p>
        </p:txBody>
      </p:sp>
      <p:sp>
        <p:nvSpPr>
          <p:cNvPr id="116"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 THE SITUATION THAT YOU ARE DEALING WIT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WHAT TYPE OF ORGANIZATION YOU ARE WORKING F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WHAT TYPE OF SUPERVISORS YOU HA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WHAT STYLE OF LEADER YOU 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 THE FOLLOWERS THAT YOU ARE LEADING AND SEE WHAT LEADERSHIP STYLE BEST ACCOMMODATES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6:45:47Z</dcterms:created>
  <dc:creator>AEURY</dc:creator>
  <dc:description/>
  <dc:language>en-US</dc:language>
  <cp:lastModifiedBy>AEURY</cp:lastModifiedBy>
  <dcterms:modified xsi:type="dcterms:W3CDTF">2011-09-15T12:04:33Z</dcterms:modified>
  <cp:revision>5</cp:revision>
  <dc:subject/>
  <dc:title>RELATIONSHIPS</dc:title>
</cp:coreProperties>
</file>